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C9C8-FF9D-459F-A9F4-8E6E0CB8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2A1-BCD3-4629-BC8E-BBDD6F35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80B8-CB94-4075-B5C2-72602D28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53F0-33D6-457F-A001-14080CAB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505E-4E81-4291-880B-5CD10C03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2A58-E64F-4818-8D32-414BFC88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2C19-AF34-4825-8FA8-73290031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4AC-DA65-4FEB-BD16-1C4CC631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AA1A-C46B-4725-BF67-7B39E0A4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0760-5744-44D0-8437-A4AFE9F4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7018-C4A7-4261-A1EB-30A96E2C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2E7C-3CE2-4B3C-AED1-941119C6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3F00-F7BD-4395-9F70-3A6B042AD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Artistic%20leaves"/>
          <p:cNvPicPr/>
          <p:nvPr/>
        </p:nvPicPr>
        <p:blipFill>
          <a:blip r:embed="rId1"/>
          <a:stretch/>
        </p:blipFill>
        <p:spPr>
          <a:xfrm>
            <a:off x="-3060720" y="-2043000"/>
            <a:ext cx="15239880" cy="11430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2513160" y="7410600"/>
            <a:ext cx="8459640" cy="703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LEAVES AND 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solar%20panel"/>
          <p:cNvPicPr/>
          <p:nvPr/>
        </p:nvPicPr>
        <p:blipFill>
          <a:blip r:embed="rId1"/>
          <a:stretch/>
        </p:blipFill>
        <p:spPr>
          <a:xfrm>
            <a:off x="755640" y="849240"/>
            <a:ext cx="7704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egoe UI"/>
                <a:ea typeface="Segoe UI"/>
              </a:rPr>
              <a:t>Leaves work in a similar way to the solar cell. They both need a lot of light energy to work.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Segoe UI"/>
                <a:ea typeface="Segoe UI"/>
              </a:rPr>
              <a:t>Photosynthesis takes place in the </a:t>
            </a:r>
            <a:r>
              <a:rPr b="1" lang="en-GB" sz="4400" spc="-1" strike="noStrike">
                <a:solidFill>
                  <a:srgbClr val="ff0000"/>
                </a:solidFill>
                <a:latin typeface="Segoe UI"/>
                <a:ea typeface="Segoe UI"/>
              </a:rPr>
              <a:t>chloroplasts</a:t>
            </a:r>
            <a:r>
              <a:rPr b="0" lang="en-GB" sz="4400" spc="-1" strike="noStrike">
                <a:solidFill>
                  <a:srgbClr val="ff0000"/>
                </a:solidFill>
                <a:latin typeface="Segoe UI"/>
                <a:ea typeface="Segoe UI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egoe UI"/>
                <a:ea typeface="Segoe UI"/>
              </a:rPr>
              <a:t>inside the leaf cel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egoe UI"/>
                <a:ea typeface="Segoe UI"/>
              </a:rPr>
              <a:t>Chloroplasts contain </a:t>
            </a:r>
            <a:r>
              <a:rPr b="1" lang="en-GB" sz="4000" spc="-1" strike="noStrike">
                <a:solidFill>
                  <a:srgbClr val="99cc00"/>
                </a:solidFill>
                <a:latin typeface="Segoe UI"/>
                <a:ea typeface="Segoe UI"/>
              </a:rPr>
              <a:t>chlorophyll</a:t>
            </a:r>
            <a:r>
              <a:rPr b="0" lang="en-GB" sz="4000" spc="-1" strike="noStrike">
                <a:solidFill>
                  <a:srgbClr val="000000"/>
                </a:solidFill>
                <a:latin typeface="Segoe UI"/>
                <a:ea typeface="Segoe UI"/>
              </a:rPr>
              <a:t>, a green pigment that takes in energy from the sunlight.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Segoe UI"/>
                <a:ea typeface="Segoe UI"/>
              </a:rPr>
              <a:t>All green parts of plants are able to photosynthesis because they contain chlorophy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Hoh%20River%20Rain%20Forest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00000"/>
                </a:solidFill>
                <a:latin typeface="Segoe UI"/>
                <a:ea typeface="Segoe UI"/>
              </a:rPr>
              <a:t>Structure of a le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612612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leaf"/>
          <p:cNvPicPr/>
          <p:nvPr/>
        </p:nvPicPr>
        <p:blipFill>
          <a:blip r:embed="rId1"/>
          <a:stretch/>
        </p:blipFill>
        <p:spPr>
          <a:xfrm>
            <a:off x="2484360" y="1700280"/>
            <a:ext cx="4505400" cy="4324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539640" y="2781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LISADE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84360" y="407664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ONGY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835280" y="6093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020000" y="141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7561440" y="40766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684360" y="501336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 flipV="1">
            <a:off x="1619280" y="2852640"/>
            <a:ext cx="936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3"/>
          <p:cNvSpPr/>
          <p:nvPr/>
        </p:nvSpPr>
        <p:spPr>
          <a:xfrm>
            <a:off x="161928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1619280" y="3357720"/>
            <a:ext cx="865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 flipV="1">
            <a:off x="1763640" y="3860640"/>
            <a:ext cx="792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763640" y="4508640"/>
            <a:ext cx="79236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 flipV="1">
            <a:off x="1835280" y="4941720"/>
            <a:ext cx="1441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8"/>
          <p:cNvSpPr/>
          <p:nvPr/>
        </p:nvSpPr>
        <p:spPr>
          <a:xfrm flipV="1">
            <a:off x="3132000" y="580500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 flipH="1">
            <a:off x="6803640" y="177336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 flipH="1">
            <a:off x="6803640" y="4221000"/>
            <a:ext cx="6476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280" y="340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Segoe UI"/>
                <a:ea typeface="Segoe UI"/>
              </a:rPr>
              <a:t>How are palisade cells speciali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egoe UI"/>
                <a:ea typeface="Segoe UI"/>
              </a:rPr>
              <a:t>Lots of chloroplasts, which contain chlorophyll to catch light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egoe UI"/>
                <a:ea typeface="Segoe UI"/>
              </a:rPr>
              <a:t>Long and thin, so they pack closely together to collect as much light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egoe UI"/>
                <a:ea typeface="Segoe UI"/>
              </a:rPr>
              <a:t>They are at the top of the leaves, to get as much light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Segoe UI"/>
                <a:ea typeface="Segoe UI"/>
              </a:rPr>
              <a:t>How does the carbon dioxide get inside the lea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leaf_cross_section_labled"/>
          <p:cNvPicPr/>
          <p:nvPr/>
        </p:nvPicPr>
        <p:blipFill>
          <a:blip r:embed="rId1"/>
          <a:stretch/>
        </p:blipFill>
        <p:spPr>
          <a:xfrm>
            <a:off x="1187280" y="14842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15:01:06Z</dcterms:created>
  <dc:creator>Jo test</dc:creator>
  <dc:description/>
  <dc:language>en-US</dc:language>
  <cp:lastModifiedBy>oskar jaskiewicz</cp:lastModifiedBy>
  <dcterms:modified xsi:type="dcterms:W3CDTF">2014-08-19T12:42:19Z</dcterms:modified>
  <cp:revision>9</cp:revision>
  <dc:subject/>
  <dc:title>Slide 1</dc:title>
</cp:coreProperties>
</file>